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2.jpeg" ContentType="image/jpeg"/>
  <Override PartName="/ppt/media/image9.wmf" ContentType="image/x-wmf"/>
  <Override PartName="/ppt/media/image14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2D3-5DBC-41C9-9A91-F212CDA1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CC7-8F15-4C9E-A9AB-1C489AC1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648-29C0-457B-9AD7-8DFCFB83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D3E-F019-4A8B-9860-B965A40E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FD9-066B-470C-9A47-A0E4D85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737-3EA9-4D63-8557-D83F41C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C3D-8F1F-43E6-8DB8-E3F908B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BCB-FD05-4237-8DEC-6DD0B80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322-5AF6-4FA0-B97C-238FB2E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474-0564-46F5-B512-9F32F87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194-935D-45E5-831E-2531AF1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81A-FCA4-455E-9BA6-EBF4844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26E9-557F-4011-9975-4EEC59BAE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is.com/source/blog/http:/www.talis.com/source/blog/images/Stop.jpeg&amp;imgrefurl=http://www.talis.com/source/blog/2007/02/&amp;usg=__vabcId4jnjZKPSvwvSZs4PqQTRs=&amp;h=346&amp;w=347&amp;sz=44&amp;hl=en&amp;start=1&amp;um=1&amp;tbnid=jzb3D2f8kuCMJM:&amp;tbnh=120&amp;tbnw=120&amp;prev=/images%3Fq%3Dstop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the 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nnor St. Pier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ll around th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14400" y="1357200"/>
            <a:ext cx="7361280" cy="504360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807732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Recorded Sound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the golf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6300720" cy="4228920"/>
          </a:xfrm>
          <a:prstGeom prst="rect">
            <a:avLst/>
          </a:prstGeom>
          <a:ln w="0">
            <a:noFill/>
          </a:ln>
        </p:spPr>
      </p:pic>
      <p:pic>
        <p:nvPicPr>
          <p:cNvPr id="84" name="Recorded Sound" descr=""/>
          <p:cNvPicPr/>
          <p:nvPr/>
        </p:nvPicPr>
        <p:blipFill>
          <a:blip r:embed="rId2"/>
          <a:stretch/>
        </p:blipFill>
        <p:spPr>
          <a:xfrm>
            <a:off x="79246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to a persons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990720" y="1768320"/>
            <a:ext cx="6781680" cy="443880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2"/>
          <a:stretch/>
        </p:blipFill>
        <p:spPr>
          <a:xfrm>
            <a:off x="79246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ould not find a good place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2"/>
          <a:stretch/>
        </p:blipFill>
        <p:spPr>
          <a:xfrm>
            <a:off x="79246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at his house his friends were worr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066680" y="1508040"/>
            <a:ext cx="7239240" cy="489276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7696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friends went to look for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7680" y="1744560"/>
            <a:ext cx="3429000" cy="4238640"/>
          </a:xfrm>
          <a:prstGeom prst="rect">
            <a:avLst/>
          </a:prstGeom>
          <a:ln w="0">
            <a:noFill/>
          </a:ln>
        </p:spPr>
      </p:pic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845820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y found him he was sleeping under a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sked him to com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3124080" y="2438280"/>
            <a:ext cx="3284640" cy="328788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3"/>
          <a:stretch/>
        </p:blipFill>
        <p:spPr>
          <a:xfrm>
            <a:off x="83818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pologiz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lsabey\Local Settings\Temporary Internet Files\Content.IE5\3ULOY7Z0\MCj04347560000[1].png"/>
          <p:cNvPicPr/>
          <p:nvPr/>
        </p:nvPicPr>
        <p:blipFill>
          <a:blip r:embed="rId2"/>
          <a:stretch/>
        </p:blipFill>
        <p:spPr>
          <a:xfrm>
            <a:off x="2286000" y="1981080"/>
            <a:ext cx="5181480" cy="3353040"/>
          </a:xfrm>
          <a:prstGeom prst="rect">
            <a:avLst/>
          </a:prstGeom>
          <a:ln w="0">
            <a:noFill/>
          </a:ln>
        </p:spPr>
      </p:pic>
      <p:pic>
        <p:nvPicPr>
          <p:cNvPr id="107" name="Recorded Sound" descr=""/>
          <p:cNvPicPr/>
          <p:nvPr/>
        </p:nvPicPr>
        <p:blipFill>
          <a:blip r:embed="rId3"/>
          <a:stretch/>
        </p:blipFill>
        <p:spPr>
          <a:xfrm>
            <a:off x="78487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on has many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guim.co.uk/Guardian/world/gallery/2008/jun/03/wildlife/GD7504324@Giant-Pandas-eat-bamb-707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8520"/>
          </a:xfrm>
          <a:prstGeom prst="rect">
            <a:avLst/>
          </a:prstGeom>
          <a:ln w="0">
            <a:noFill/>
          </a:ln>
        </p:spPr>
      </p:pic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76960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ame home and he was hap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2819520" y="1981080"/>
            <a:ext cx="3736800" cy="374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sabey\Local Settings\Temporary Internet Files\Content.IE5\7ARHBD3L\MPj04393150000[1].jpg"/>
          <p:cNvPicPr/>
          <p:nvPr/>
        </p:nvPicPr>
        <p:blipFill>
          <a:blip r:embed="rId2"/>
          <a:stretch/>
        </p:blipFill>
        <p:spPr>
          <a:xfrm>
            <a:off x="3429000" y="1716120"/>
            <a:ext cx="3429000" cy="513864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3"/>
          <a:stretch/>
        </p:blipFill>
        <p:spPr>
          <a:xfrm>
            <a:off x="79246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different than his fri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ifferent land animals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519800"/>
          </a:xfrm>
          <a:prstGeom prst="rect">
            <a:avLst/>
          </a:prstGeom>
          <a:ln w="0">
            <a:noFill/>
          </a:ln>
        </p:spPr>
      </p:pic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had red hair and his friends had black and white h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www.hoglezoo.org/images/animal_finder/RedPanda_1.jpg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static.guim.co.uk/Guardian/world/gallery/2008/jun/03/wildlife/GD7504324@Giant-Pandas-eat-bamb-7071.jpg"/>
          <p:cNvPicPr/>
          <p:nvPr/>
        </p:nvPicPr>
        <p:blipFill>
          <a:blip r:embed="rId2"/>
          <a:stretch/>
        </p:blipFill>
        <p:spPr>
          <a:xfrm>
            <a:off x="4818240" y="160020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Recorded Sound" descr=""/>
          <p:cNvPicPr/>
          <p:nvPr/>
        </p:nvPicPr>
        <p:blipFill>
          <a:blip r:embed="rId3"/>
          <a:stretch/>
        </p:blipFill>
        <p:spPr>
          <a:xfrm>
            <a:off x="82296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made fun of h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clipartof.com/images/clipart/xsmall2/14436_grumpy_ginger_cat_with_fish_making_fun_of_him_in_a_fishbowl_stuck_on_his_head.jpg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7848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made him very s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msp59.photobucket.com/albums/g308/polito_2006/Sad_Face_by_hornsholdmyhalo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Recorded Sound" descr=""/>
          <p:cNvPicPr/>
          <p:nvPr/>
        </p:nvPicPr>
        <p:blipFill>
          <a:blip r:embed="rId2"/>
          <a:stretch/>
        </p:blipFill>
        <p:spPr>
          <a:xfrm>
            <a:off x="7696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nted his friends to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bn3.google.com/images?q=tbn:jzb3D2f8kuCMJM:http://www.talis.com/source/blog/http:/www.talis.com/source/blog/images/Stop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Recorded Sound" descr=""/>
          <p:cNvPicPr/>
          <p:nvPr/>
        </p:nvPicPr>
        <p:blipFill>
          <a:blip r:embed="rId3"/>
          <a:stretch/>
        </p:blipFill>
        <p:spPr>
          <a:xfrm>
            <a:off x="81532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ould not s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90248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8153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ran a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9" descr="C:\Documents and Settings\lsabey\Local Settings\Temporary Internet Files\Content.IE5\FGJUL90C\MCj04401630000[1].wmf"/>
          <p:cNvPicPr/>
          <p:nvPr/>
        </p:nvPicPr>
        <p:blipFill>
          <a:blip r:embed="rId1"/>
          <a:stretch/>
        </p:blipFill>
        <p:spPr>
          <a:xfrm>
            <a:off x="2971800" y="2170080"/>
            <a:ext cx="2860560" cy="255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Recorded Sound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50:01Z</dcterms:created>
  <dc:creator>itsuser</dc:creator>
  <dc:description/>
  <dc:language>en-US</dc:language>
  <cp:lastModifiedBy>itsuser</cp:lastModifiedBy>
  <dcterms:modified xsi:type="dcterms:W3CDTF">2009-03-17T16:23:18Z</dcterms:modified>
  <cp:revision>13</cp:revision>
  <dc:subject/>
  <dc:title>Mason the Panda</dc:title>
</cp:coreProperties>
</file>